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21B0-C3F0-4717-8648-674039721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6A62-F702-4469-8D28-3D02251D9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7688-1D07-4DE9-A5EC-4EB49D731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4672-080C-4D26-9B8D-4DAF8BE8D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1904E-FB37-436A-9104-377196061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3F297-FAEF-4C22-9155-C7F237566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4D436-D7D0-43D4-AE2C-49562F17D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B69E6-193D-42E3-B7D6-4C9B23A37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27CBA-8986-4BCA-BCD8-AAA5EE834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19A16-6C60-4444-BC8B-494DDFAD8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B40A1-DBB2-47D0-A8CA-FED2BD74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4FBA-86C6-4655-959E-39534C596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E8C4C-C2BE-4DBD-94CD-014DE037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105A3-775F-4855-8F17-AB496845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84B9D-9D68-476F-BFB9-171373BF0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6FBA8-319B-4543-A7E4-4F60772DD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167A0-8E23-48D0-BE35-8FC788B8C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DFD4-1A89-4A24-A066-238689C7D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0FDF-A5E5-4A40-AC46-9E0488933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A860-F5D1-46E7-A970-678D9C37A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5656-05BF-440D-9BCF-63C60E1FB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F29C-5D45-417D-9A06-4726557B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BF59-B46C-4D4C-868E-944D87C5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71D6-C8FA-4D23-93E4-14F8A97A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e1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e1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e1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e1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e1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742DDD8-F05A-4965-8678-9B41730D9E5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e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e1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e1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e1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e1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e1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e1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e1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e1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BFC9F8F-1870-4230-876B-118A6147A9B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e1"/>
              </a:solidFill>
              <a:latin typeface="Arial"/>
            </a:endParaRPr>
          </a:p>
        </p:txBody>
      </p:sp>
      <p:sp>
        <p:nvSpPr>
          <p:cNvPr id="98" name="Rectangle 4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e1"/>
              </a:solidFill>
              <a:latin typeface="Arial"/>
            </a:endParaRPr>
          </a:p>
        </p:txBody>
      </p:sp>
      <p:sp>
        <p:nvSpPr>
          <p:cNvPr id="99" name="Rectangle 10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e1"/>
              </a:solidFill>
              <a:latin typeface="Arial"/>
            </a:endParaRPr>
          </a:p>
        </p:txBody>
      </p:sp>
      <p:grpSp>
        <p:nvGrpSpPr>
          <p:cNvPr id="100" name="Organization Chart 88"/>
          <p:cNvGrpSpPr/>
          <p:nvPr/>
        </p:nvGrpSpPr>
        <p:grpSpPr>
          <a:xfrm>
            <a:off x="428760" y="-14400"/>
            <a:ext cx="8715240" cy="6729120"/>
            <a:chOff x="428760" y="-14400"/>
            <a:chExt cx="8715240" cy="6729120"/>
          </a:xfrm>
        </p:grpSpPr>
        <p:cxnSp>
          <p:nvCxnSpPr>
            <p:cNvPr id="101" name="_s1028"/>
            <p:cNvCxnSpPr>
              <a:stCxn id="102" idx="0"/>
              <a:endCxn id="103" idx="0"/>
            </p:cNvCxnSpPr>
            <p:nvPr/>
          </p:nvCxnSpPr>
          <p:spPr>
            <a:xfrm flipV="1" rot="16200000">
              <a:off x="5162040" y="3301560"/>
              <a:ext cx="2437920" cy="1138320"/>
            </a:xfrm>
            <a:prstGeom prst="bentConnector4">
              <a:avLst>
                <a:gd name="adj1" fmla="val 16659"/>
                <a:gd name="adj2" fmla="val 120088"/>
              </a:avLst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04" name="_s1029"/>
            <p:cNvCxnSpPr>
              <a:stCxn id="105" idx="0"/>
              <a:endCxn id="103" idx="1"/>
            </p:cNvCxnSpPr>
            <p:nvPr/>
          </p:nvCxnSpPr>
          <p:spPr>
            <a:xfrm flipH="1" flipV="1" rot="5400000">
              <a:off x="4264560" y="3542400"/>
              <a:ext cx="2437920" cy="65700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06" name="_s1030"/>
            <p:cNvCxnSpPr>
              <a:stCxn id="107" idx="0"/>
              <a:endCxn id="108" idx="0"/>
            </p:cNvCxnSpPr>
            <p:nvPr/>
          </p:nvCxnSpPr>
          <p:spPr>
            <a:xfrm flipV="1" rot="16200000">
              <a:off x="1573200" y="3301920"/>
              <a:ext cx="2437920" cy="1137960"/>
            </a:xfrm>
            <a:prstGeom prst="bentConnector4">
              <a:avLst>
                <a:gd name="adj1" fmla="val 16659"/>
                <a:gd name="adj2" fmla="val 120094"/>
              </a:avLst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09" name="_s1031"/>
            <p:cNvCxnSpPr>
              <a:stCxn id="110" idx="0"/>
              <a:endCxn id="108" idx="1"/>
            </p:cNvCxnSpPr>
            <p:nvPr/>
          </p:nvCxnSpPr>
          <p:spPr>
            <a:xfrm flipH="1" flipV="1" rot="5400000">
              <a:off x="675360" y="3542400"/>
              <a:ext cx="2437920" cy="65736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11" name="_s1032"/>
            <p:cNvCxnSpPr>
              <a:stCxn id="112" idx="0"/>
              <a:endCxn id="113" idx="0"/>
            </p:cNvCxnSpPr>
            <p:nvPr/>
          </p:nvCxnSpPr>
          <p:spPr>
            <a:xfrm flipV="1" rot="16200000">
              <a:off x="4712760" y="-481680"/>
              <a:ext cx="2438280" cy="3829680"/>
            </a:xfrm>
            <a:prstGeom prst="bentConnector3">
              <a:avLst>
                <a:gd name="adj1" fmla="val 109376"/>
              </a:avLst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14" name="_s1033"/>
            <p:cNvCxnSpPr>
              <a:stCxn id="103" idx="2"/>
              <a:endCxn id="113" idx="1"/>
            </p:cNvCxnSpPr>
            <p:nvPr/>
          </p:nvCxnSpPr>
          <p:spPr>
            <a:xfrm flipV="1" rot="16200000">
              <a:off x="3815640" y="415800"/>
              <a:ext cx="2438280" cy="2035080"/>
            </a:xfrm>
            <a:prstGeom prst="bentConnector3">
              <a:avLst>
                <a:gd name="adj1" fmla="val 109376"/>
              </a:avLst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15" name="_s1034"/>
            <p:cNvCxnSpPr>
              <a:stCxn id="108" idx="2"/>
              <a:endCxn id="113" idx="2"/>
            </p:cNvCxnSpPr>
            <p:nvPr/>
          </p:nvCxnSpPr>
          <p:spPr>
            <a:xfrm flipH="1" flipV="1" rot="5400000">
              <a:off x="2021040" y="656280"/>
              <a:ext cx="2438280" cy="155448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116" name="_s1035"/>
            <p:cNvCxnSpPr>
              <a:stCxn id="117" idx="0"/>
              <a:endCxn id="113" idx="3"/>
            </p:cNvCxnSpPr>
            <p:nvPr/>
          </p:nvCxnSpPr>
          <p:spPr>
            <a:xfrm flipH="1" flipV="1" rot="5400000">
              <a:off x="1123920" y="-240840"/>
              <a:ext cx="2438280" cy="334872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</a:ln>
          </p:spPr>
        </p:cxnSp>
        <p:sp>
          <p:nvSpPr>
            <p:cNvPr id="113" name="_s1036"/>
            <p:cNvSpPr/>
            <p:nvPr/>
          </p:nvSpPr>
          <p:spPr>
            <a:xfrm>
              <a:off x="4017240" y="214200"/>
              <a:ext cx="1537920" cy="1625040"/>
            </a:xfrm>
            <a:custGeom>
              <a:avLst/>
              <a:gdLst>
                <a:gd name="textAreaLeft" fmla="*/ 240120 w 1537920"/>
                <a:gd name="textAreaRight" fmla="*/ 1538280 w 1537920"/>
                <a:gd name="textAreaTop" fmla="*/ 0 h 1625040"/>
                <a:gd name="textAreaBottom" fmla="*/ 1625400 h 162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60897c">
                <a:alpha val="50000"/>
              </a:srgbClr>
            </a:solidFill>
            <a:ln w="3240">
              <a:solidFill>
                <a:srgbClr val="6089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аречие</a:t>
              </a:r>
              <a:endParaRPr b="0" lang="en-US" sz="2000" spc="-1" strike="noStrike">
                <a:solidFill>
                  <a:srgbClr val="ffffe1"/>
                </a:solidFill>
                <a:latin typeface="Arial"/>
              </a:endParaRPr>
            </a:p>
          </p:txBody>
        </p:sp>
        <p:sp>
          <p:nvSpPr>
            <p:cNvPr id="117" name="_s1037"/>
            <p:cNvSpPr/>
            <p:nvPr/>
          </p:nvSpPr>
          <p:spPr>
            <a:xfrm>
              <a:off x="428760" y="2652120"/>
              <a:ext cx="1537920" cy="1625040"/>
            </a:xfrm>
            <a:custGeom>
              <a:avLst/>
              <a:gdLst>
                <a:gd name="textAreaLeft" fmla="*/ 240120 w 1537920"/>
                <a:gd name="textAreaRight" fmla="*/ 1538280 w 1537920"/>
                <a:gd name="textAreaTop" fmla="*/ 0 h 1625040"/>
                <a:gd name="textAreaBottom" fmla="*/ 1625400 h 162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669900">
                <a:alpha val="50000"/>
              </a:srgbClr>
            </a:solidFill>
            <a:ln w="32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Е ИЗМЕНЯЕТСЯ</a:t>
              </a:r>
              <a:endParaRPr b="0" lang="en-US" sz="1200" spc="-1" strike="noStrike">
                <a:solidFill>
                  <a:srgbClr val="ffffe1"/>
                </a:solidFill>
                <a:latin typeface="Arial"/>
              </a:endParaRPr>
            </a:p>
          </p:txBody>
        </p:sp>
        <p:sp>
          <p:nvSpPr>
            <p:cNvPr id="108" name="_s1038"/>
            <p:cNvSpPr/>
            <p:nvPr/>
          </p:nvSpPr>
          <p:spPr>
            <a:xfrm>
              <a:off x="2223000" y="2652120"/>
              <a:ext cx="1537920" cy="1625040"/>
            </a:xfrm>
            <a:custGeom>
              <a:avLst/>
              <a:gdLst>
                <a:gd name="textAreaLeft" fmla="*/ 240120 w 1537920"/>
                <a:gd name="textAreaRight" fmla="*/ 1538280 w 1537920"/>
                <a:gd name="textAreaTop" fmla="*/ 0 h 1625040"/>
                <a:gd name="textAreaBottom" fmla="*/ 1625400 h 162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669900">
                <a:alpha val="50000"/>
              </a:srgbClr>
            </a:solidFill>
            <a:ln w="32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Имеет степени сравнения</a:t>
              </a:r>
              <a:endParaRPr b="0" lang="en-US" sz="1900" spc="-1" strike="noStrike">
                <a:solidFill>
                  <a:srgbClr val="ffffe1"/>
                </a:solidFill>
                <a:latin typeface="Arial"/>
              </a:endParaRPr>
            </a:p>
          </p:txBody>
        </p:sp>
        <p:sp>
          <p:nvSpPr>
            <p:cNvPr id="103" name="_s1039"/>
            <p:cNvSpPr/>
            <p:nvPr/>
          </p:nvSpPr>
          <p:spPr>
            <a:xfrm>
              <a:off x="5811840" y="2652120"/>
              <a:ext cx="1537920" cy="1625040"/>
            </a:xfrm>
            <a:custGeom>
              <a:avLst/>
              <a:gdLst>
                <a:gd name="textAreaLeft" fmla="*/ 240120 w 1537920"/>
                <a:gd name="textAreaRight" fmla="*/ 1538280 w 1537920"/>
                <a:gd name="textAreaTop" fmla="*/ 0 h 1625040"/>
                <a:gd name="textAreaBottom" fmla="*/ 1625400 h 162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669900">
                <a:alpha val="50000"/>
              </a:srgbClr>
            </a:solidFill>
            <a:ln w="32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бозначает </a:t>
              </a:r>
              <a:endParaRPr b="0" lang="en-US" sz="1400" spc="-1" strike="noStrike">
                <a:solidFill>
                  <a:srgbClr val="ffffe1"/>
                </a:solidFill>
                <a:latin typeface="Arial"/>
              </a:endParaRPr>
            </a:p>
          </p:txBody>
        </p:sp>
        <p:sp>
          <p:nvSpPr>
            <p:cNvPr id="112" name="_s1040"/>
            <p:cNvSpPr/>
            <p:nvPr/>
          </p:nvSpPr>
          <p:spPr>
            <a:xfrm>
              <a:off x="7606440" y="2652120"/>
              <a:ext cx="1537560" cy="1625040"/>
            </a:xfrm>
            <a:custGeom>
              <a:avLst/>
              <a:gdLst>
                <a:gd name="textAreaLeft" fmla="*/ 240120 w 1537560"/>
                <a:gd name="textAreaRight" fmla="*/ 1537920 w 1537560"/>
                <a:gd name="textAreaTop" fmla="*/ 0 h 1625040"/>
                <a:gd name="textAreaBottom" fmla="*/ 1625400 h 162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669900">
                <a:alpha val="50000"/>
              </a:srgbClr>
            </a:solidFill>
            <a:ln w="324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В предложении является обстоятельством</a:t>
              </a:r>
              <a:endParaRPr b="0" lang="en-US" sz="1100" spc="-1" strike="noStrike">
                <a:solidFill>
                  <a:srgbClr val="ffffe1"/>
                </a:solidFill>
                <a:latin typeface="Arial"/>
              </a:endParaRPr>
            </a:p>
          </p:txBody>
        </p:sp>
        <p:sp>
          <p:nvSpPr>
            <p:cNvPr id="110" name="_s1041"/>
            <p:cNvSpPr/>
            <p:nvPr/>
          </p:nvSpPr>
          <p:spPr>
            <a:xfrm>
              <a:off x="1325880" y="5089680"/>
              <a:ext cx="1537920" cy="1625040"/>
            </a:xfrm>
            <a:custGeom>
              <a:avLst/>
              <a:gdLst>
                <a:gd name="textAreaLeft" fmla="*/ 240120 w 1537920"/>
                <a:gd name="textAreaRight" fmla="*/ 1538280 w 1537920"/>
                <a:gd name="textAreaTop" fmla="*/ 0 h 1625040"/>
                <a:gd name="textAreaBottom" fmla="*/ 1625400 h 162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cccc00">
                <a:alpha val="50000"/>
              </a:srgbClr>
            </a:solidFill>
            <a:ln w="324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равнительная</a:t>
              </a:r>
              <a:endParaRPr b="0" lang="en-US" sz="1200" spc="-1" strike="noStrike">
                <a:solidFill>
                  <a:srgbClr val="ffffe1"/>
                </a:solidFill>
                <a:latin typeface="Arial"/>
              </a:endParaRPr>
            </a:p>
          </p:txBody>
        </p:sp>
        <p:sp>
          <p:nvSpPr>
            <p:cNvPr id="107" name="_s1042"/>
            <p:cNvSpPr/>
            <p:nvPr/>
          </p:nvSpPr>
          <p:spPr>
            <a:xfrm>
              <a:off x="3120480" y="5089680"/>
              <a:ext cx="1537920" cy="1625040"/>
            </a:xfrm>
            <a:custGeom>
              <a:avLst/>
              <a:gdLst>
                <a:gd name="textAreaLeft" fmla="*/ 240120 w 1537920"/>
                <a:gd name="textAreaRight" fmla="*/ 1538280 w 1537920"/>
                <a:gd name="textAreaTop" fmla="*/ 0 h 1625040"/>
                <a:gd name="textAreaBottom" fmla="*/ 1625400 h 162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cccc00">
                <a:alpha val="50000"/>
              </a:srgbClr>
            </a:solidFill>
            <a:ln w="324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ревосходная</a:t>
              </a:r>
              <a:endParaRPr b="0" lang="en-US" sz="1200" spc="-1" strike="noStrike">
                <a:solidFill>
                  <a:srgbClr val="ffffe1"/>
                </a:solidFill>
                <a:latin typeface="Arial"/>
              </a:endParaRPr>
            </a:p>
          </p:txBody>
        </p:sp>
        <p:sp>
          <p:nvSpPr>
            <p:cNvPr id="105" name="_s1043"/>
            <p:cNvSpPr/>
            <p:nvPr/>
          </p:nvSpPr>
          <p:spPr>
            <a:xfrm>
              <a:off x="4915080" y="5089680"/>
              <a:ext cx="1537920" cy="1625040"/>
            </a:xfrm>
            <a:custGeom>
              <a:avLst/>
              <a:gdLst>
                <a:gd name="textAreaLeft" fmla="*/ 240120 w 1537920"/>
                <a:gd name="textAreaRight" fmla="*/ 1538280 w 1537920"/>
                <a:gd name="textAreaTop" fmla="*/ 0 h 1625040"/>
                <a:gd name="textAreaBottom" fmla="*/ 1625400 h 162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cccc00">
                <a:alpha val="50000"/>
              </a:srgbClr>
            </a:solidFill>
            <a:ln w="324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ризнак признака</a:t>
              </a:r>
              <a:endParaRPr b="0" lang="en-US" sz="1200" spc="-1" strike="noStrike">
                <a:solidFill>
                  <a:srgbClr val="ffffe1"/>
                </a:solidFill>
                <a:latin typeface="Arial"/>
              </a:endParaRPr>
            </a:p>
          </p:txBody>
        </p:sp>
        <p:sp>
          <p:nvSpPr>
            <p:cNvPr id="102" name="_s1044"/>
            <p:cNvSpPr/>
            <p:nvPr/>
          </p:nvSpPr>
          <p:spPr>
            <a:xfrm>
              <a:off x="6709680" y="5089680"/>
              <a:ext cx="1537560" cy="1625040"/>
            </a:xfrm>
            <a:custGeom>
              <a:avLst/>
              <a:gdLst>
                <a:gd name="textAreaLeft" fmla="*/ 240120 w 1537560"/>
                <a:gd name="textAreaRight" fmla="*/ 1537920 w 1537560"/>
                <a:gd name="textAreaTop" fmla="*/ 0 h 1625040"/>
                <a:gd name="textAreaBottom" fmla="*/ 1625400 h 162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cccc00">
                <a:alpha val="50000"/>
              </a:srgbClr>
            </a:solidFill>
            <a:ln w="324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ризнак действия</a:t>
              </a:r>
              <a:endParaRPr b="0" lang="en-US" sz="1200" spc="-1" strike="noStrike">
                <a:solidFill>
                  <a:srgbClr val="ffffe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999720" y="1500120"/>
            <a:ext cx="777420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ru-RU" sz="4000" spc="-1" strike="noStrike">
                <a:solidFill>
                  <a:srgbClr val="e70000"/>
                </a:solidFill>
                <a:latin typeface="Arial"/>
              </a:rPr>
              <a:t>Из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неженн</a:t>
            </a:r>
            <a:r>
              <a:rPr b="1" i="1" lang="ru-RU" sz="4000" spc="-1" strike="noStrike">
                <a:solidFill>
                  <a:srgbClr val="00b050"/>
                </a:solidFill>
                <a:latin typeface="Arial"/>
              </a:rPr>
              <a:t>о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4000" spc="-1" strike="noStrike">
                <a:solidFill>
                  <a:srgbClr val="e70000"/>
                </a:solidFill>
                <a:latin typeface="Arial"/>
              </a:rPr>
              <a:t>из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нежен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ru-RU" sz="4000" spc="-1" strike="noStrike">
                <a:solidFill>
                  <a:srgbClr val="e70000"/>
                </a:solidFill>
                <a:latin typeface="Arial"/>
              </a:rPr>
              <a:t>До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словн</a:t>
            </a:r>
            <a:r>
              <a:rPr b="1" i="1" lang="ru-RU" sz="4000" spc="-1" strike="noStrike">
                <a:solidFill>
                  <a:srgbClr val="00b050"/>
                </a:solidFill>
                <a:latin typeface="Arial"/>
              </a:rPr>
              <a:t>о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4000" spc="-1" strike="noStrike">
                <a:solidFill>
                  <a:srgbClr val="e70000"/>
                </a:solidFill>
                <a:latin typeface="Arial"/>
              </a:rPr>
              <a:t>до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слов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ru-RU" sz="6000" spc="-1" strike="noStrike">
                <a:solidFill>
                  <a:srgbClr val="e70000"/>
                </a:solidFill>
                <a:latin typeface="Bookman Old Style"/>
              </a:rPr>
              <a:t>но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ru-RU" sz="4000" spc="-1" strike="noStrike">
                <a:solidFill>
                  <a:srgbClr val="e70000"/>
                </a:solidFill>
                <a:latin typeface="Arial"/>
              </a:rPr>
              <a:t>Из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редк</a:t>
            </a:r>
            <a:r>
              <a:rPr b="1" i="1" lang="ru-RU" sz="4000" spc="-1" strike="noStrike">
                <a:solidFill>
                  <a:srgbClr val="00b050"/>
                </a:solidFill>
                <a:latin typeface="Arial"/>
              </a:rPr>
              <a:t>а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ru-RU" sz="4000" spc="-1" strike="noStrike">
                <a:solidFill>
                  <a:srgbClr val="00b050"/>
                </a:solidFill>
                <a:latin typeface="Arial"/>
              </a:rPr>
              <a:t>ред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ru-RU" sz="4000" spc="-1" strike="noStrike">
                <a:solidFill>
                  <a:srgbClr val="e70000"/>
                </a:solidFill>
                <a:latin typeface="Arial"/>
              </a:rPr>
              <a:t>До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чист</a:t>
            </a:r>
            <a:r>
              <a:rPr b="1" i="1" lang="ru-RU" sz="4000" spc="-1" strike="noStrike">
                <a:solidFill>
                  <a:srgbClr val="00b050"/>
                </a:solidFill>
                <a:latin typeface="Arial"/>
              </a:rPr>
              <a:t>а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4000" spc="-1" strike="noStrike">
                <a:solidFill>
                  <a:srgbClr val="00b050"/>
                </a:solidFill>
                <a:latin typeface="Arial"/>
              </a:rPr>
              <a:t>чист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10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Прямая со стрелкой 3"/>
          <p:cNvCxnSpPr/>
          <p:nvPr/>
        </p:nvCxnSpPr>
        <p:spPr>
          <a:xfrm flipH="1" flipV="1">
            <a:off x="4071240" y="1999440"/>
            <a:ext cx="8578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3" name="Прямая со стрелкой 5"/>
          <p:cNvCxnSpPr/>
          <p:nvPr/>
        </p:nvCxnSpPr>
        <p:spPr>
          <a:xfrm flipH="1" flipV="1">
            <a:off x="3928680" y="2642400"/>
            <a:ext cx="100080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4" name="Прямая со стрелкой 10"/>
          <p:cNvCxnSpPr/>
          <p:nvPr/>
        </p:nvCxnSpPr>
        <p:spPr>
          <a:xfrm flipH="1" flipV="1">
            <a:off x="3571560" y="5214600"/>
            <a:ext cx="1072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5" name="Прямая со стрелкой 11"/>
          <p:cNvCxnSpPr/>
          <p:nvPr/>
        </p:nvCxnSpPr>
        <p:spPr>
          <a:xfrm flipH="1" flipV="1">
            <a:off x="3499560" y="4428360"/>
            <a:ext cx="114372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1"/>
          <p:cNvSpPr/>
          <p:nvPr/>
        </p:nvSpPr>
        <p:spPr>
          <a:xfrm>
            <a:off x="1785960" y="357120"/>
            <a:ext cx="57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 Antiqua"/>
              </a:rPr>
              <a:t>Алгоритм рассуждения </a:t>
            </a:r>
            <a:endParaRPr b="0" lang="en-US" sz="3600" spc="-1" strike="noStrike">
              <a:solidFill>
                <a:srgbClr val="ffffe1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14200" y="1000080"/>
          <a:ext cx="8786880" cy="5357880"/>
        </p:xfrm>
        <a:graphic>
          <a:graphicData uri="http://schemas.openxmlformats.org/drawingml/2006/table">
            <a:tbl>
              <a:tblPr/>
              <a:tblGrid>
                <a:gridCol w="8786880"/>
              </a:tblGrid>
              <a:tr h="7514640"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Monotype Corsiv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Смотрим, есть ли в наречии приставки ИЗ-, ДО-, С-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                          </a:t>
                      </a:r>
                      <a:endParaRPr b="0" lang="en-US" sz="18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            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да                                нет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           </a:t>
                      </a:r>
                      <a:endParaRPr b="0" lang="en-US" sz="18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  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рассуждаю дальше       пишу О</a:t>
                      </a:r>
                      <a:endParaRPr b="0" lang="en-US" sz="36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2. Смотрим, как образовано наречие</a:t>
                      </a:r>
                      <a:endParaRPr b="0" lang="en-US" sz="36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от бесприставочного прилаг.            от прилагательного с приставкой</a:t>
                      </a:r>
                      <a:endParaRPr b="0" lang="en-US" sz="24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	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  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Monotype Corsiva"/>
                          <a:ea typeface="Times New Roman"/>
                        </a:rPr>
                        <a:t>пишу А                                 пишу О</a:t>
                      </a:r>
                      <a:endParaRPr b="0" lang="en-US" sz="36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38" name="Прямая со стрелкой 26"/>
          <p:cNvCxnSpPr/>
          <p:nvPr/>
        </p:nvCxnSpPr>
        <p:spPr>
          <a:xfrm flipH="1">
            <a:off x="2142360" y="1784880"/>
            <a:ext cx="715320" cy="572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9" name="Прямая со стрелкой 28"/>
          <p:cNvCxnSpPr/>
          <p:nvPr/>
        </p:nvCxnSpPr>
        <p:spPr>
          <a:xfrm>
            <a:off x="4785840" y="1785600"/>
            <a:ext cx="786600" cy="500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0" name="Прямая со стрелкой 29"/>
          <p:cNvCxnSpPr/>
          <p:nvPr/>
        </p:nvCxnSpPr>
        <p:spPr>
          <a:xfrm flipH="1">
            <a:off x="2285640" y="4570920"/>
            <a:ext cx="1572480" cy="4294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1" name="Прямая со стрелкой 30"/>
          <p:cNvCxnSpPr/>
          <p:nvPr/>
        </p:nvCxnSpPr>
        <p:spPr>
          <a:xfrm>
            <a:off x="6286680" y="4500360"/>
            <a:ext cx="1072080" cy="500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2" name="Прямая со стрелкой 31"/>
          <p:cNvCxnSpPr/>
          <p:nvPr/>
        </p:nvCxnSpPr>
        <p:spPr>
          <a:xfrm flipH="1">
            <a:off x="5571360" y="2786040"/>
            <a:ext cx="2520" cy="645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3" name="Прямая со стрелкой 32"/>
          <p:cNvCxnSpPr/>
          <p:nvPr/>
        </p:nvCxnSpPr>
        <p:spPr>
          <a:xfrm flipH="1">
            <a:off x="2284200" y="2714760"/>
            <a:ext cx="2160" cy="643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1"/>
          <p:cNvSpPr/>
          <p:nvPr/>
        </p:nvSpPr>
        <p:spPr>
          <a:xfrm>
            <a:off x="1428840" y="1857240"/>
            <a:ext cx="7358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Bookman Old Style"/>
              </a:rPr>
              <a:t>Домашнее задание:</a:t>
            </a:r>
            <a:endParaRPr b="0" lang="en-US" sz="5400" spc="-1" strike="noStrike">
              <a:solidFill>
                <a:srgbClr val="ffffe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Bookman Old Style"/>
              </a:rPr>
              <a:t>§ 43, упр. 271, стр. 112</a:t>
            </a:r>
            <a:endParaRPr b="0" lang="en-US" sz="5400" spc="-1" strike="noStrike">
              <a:solidFill>
                <a:srgbClr val="ffff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1556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ньше мы редко ездили отдыхать на мор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лнце изредка показывалось из-за туч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ева возвышались горы, справа чернела пропасть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посмотрел налево, потом напра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иж метнулся вправо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 был вытерт досух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улице было солнечно, сухо и пыльно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 заново начал писать сочинени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 окном снова начался дождь.</a:t>
            </a:r>
            <a:br>
              <a:rPr sz="2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240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дко, изредка, слева, справа, налево, направо, вправо, досуха, сухо, заново, сно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1214280" y="857160"/>
          <a:ext cx="6286680" cy="5237280"/>
        </p:xfrm>
        <a:graphic>
          <a:graphicData uri="http://schemas.openxmlformats.org/drawingml/2006/table">
            <a:tbl>
              <a:tblPr/>
              <a:tblGrid>
                <a:gridCol w="3143520"/>
                <a:gridCol w="314316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редко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зредка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ухо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досуха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аправо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право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права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алево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лева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заново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нова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914400" y="1600200"/>
            <a:ext cx="777384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чему на конце однокоренных наречий разные гласны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то мы должны выяснить? Поставьте вопрос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772400" cy="30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</a:rPr>
              <a:t>Буквы о, а </a:t>
            </a:r>
            <a:br>
              <a:rPr sz="7200"/>
            </a:br>
            <a:r>
              <a:rPr b="1" i="1" lang="ru-RU" sz="7200" spc="-1" strike="noStrike">
                <a:solidFill>
                  <a:srgbClr val="000000"/>
                </a:solidFill>
                <a:latin typeface="Times New Roman"/>
              </a:rPr>
              <a:t>на конце наречий</a:t>
            </a:r>
            <a:endParaRPr b="0" lang="en-US" sz="7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311040" y="3997440"/>
            <a:ext cx="1128960" cy="194292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5"/>
          <p:cNvSpPr/>
          <p:nvPr/>
        </p:nvSpPr>
        <p:spPr>
          <a:xfrm>
            <a:off x="1571760" y="4000680"/>
            <a:ext cx="7072200" cy="19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 Antiqua"/>
              </a:rPr>
              <a:t>Цель: научиться правильно писать буквы О и А на конце наречий</a:t>
            </a:r>
            <a:endParaRPr b="0" lang="en-US" sz="3200" spc="-1" strike="noStrike">
              <a:solidFill>
                <a:srgbClr val="ffffe1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1214280" y="857160"/>
          <a:ext cx="6286680" cy="5237280"/>
        </p:xfrm>
        <a:graphic>
          <a:graphicData uri="http://schemas.openxmlformats.org/drawingml/2006/table">
            <a:tbl>
              <a:tblPr/>
              <a:tblGrid>
                <a:gridCol w="3143520"/>
                <a:gridCol w="314316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редко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зредка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ухо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досуха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аправо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право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права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алево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лева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заново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нова</a:t>
                      </a:r>
                      <a:endParaRPr b="0" lang="en-US" sz="3200" spc="-1" strike="noStrike">
                        <a:solidFill>
                          <a:srgbClr val="ffffe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7715160" y="4572000"/>
            <a:ext cx="1197000" cy="20001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28440" y="285840"/>
            <a:ext cx="293364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Гипотез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28400" y="1000080"/>
            <a:ext cx="871524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0680" algn="ctr">
              <a:lnSpc>
                <a:spcPct val="140000"/>
              </a:lnSpc>
              <a:spcBef>
                <a:spcPts val="1001"/>
              </a:spcBef>
              <a:buClr>
                <a:srgbClr val="000000"/>
              </a:buClr>
              <a:buSzPct val="70000"/>
              <a:buFont typeface="Book Antiqu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Book Antiqua"/>
              </a:rPr>
              <a:t>Слова с приставками 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Book Antiqua"/>
              </a:rPr>
              <a:t>в-, на-, за-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Book Antiqua"/>
              </a:rPr>
              <a:t>пишутся с 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Book Antiqua"/>
              </a:rPr>
              <a:t>-о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Book Antiqua"/>
              </a:rPr>
              <a:t> на конце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0680" algn="ctr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Book Antiqu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Book Antiqua"/>
              </a:rPr>
              <a:t>а слова с приставками 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Book Antiqua"/>
              </a:rPr>
              <a:t>из-, до-, с-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Book Antiqua"/>
              </a:rPr>
              <a:t>пишутся с -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Book Antiqua"/>
              </a:rPr>
              <a:t>а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Book Antiqua"/>
              </a:rPr>
              <a:t>на конце слова</a:t>
            </a:r>
            <a:br>
              <a:rPr sz="3200"/>
            </a:br>
            <a:br>
              <a:rPr sz="3200"/>
            </a:br>
            <a:r>
              <a:rPr b="1" lang="ru-RU" sz="3200" spc="-1" strike="noStrike" u="sng">
                <a:solidFill>
                  <a:srgbClr val="000000"/>
                </a:solidFill>
                <a:uFillTx/>
                <a:latin typeface="Book Antiq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394920"/>
            <a:ext cx="777384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0033"/>
                </a:solidFill>
                <a:latin typeface="Bookman Old Style"/>
              </a:rPr>
              <a:t>Подтвердите выведенное правило примерами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57120" y="1571760"/>
            <a:ext cx="8786880" cy="45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7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160" indent="0" algn="ctr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Слев</a:t>
            </a:r>
            <a:r>
              <a:rPr b="1" i="1" lang="ru-RU" sz="5400" spc="-1" strike="noStrike">
                <a:solidFill>
                  <a:srgbClr val="e70000"/>
                </a:solidFill>
                <a:latin typeface="Book Antiqua"/>
              </a:rPr>
              <a:t>а</a:t>
            </a: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, изредк</a:t>
            </a:r>
            <a:r>
              <a:rPr b="1" i="1" lang="ru-RU" sz="5400" spc="-1" strike="noStrike">
                <a:solidFill>
                  <a:srgbClr val="e70000"/>
                </a:solidFill>
                <a:latin typeface="Book Antiqua"/>
              </a:rPr>
              <a:t>а</a:t>
            </a: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,</a:t>
            </a: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 дочист</a:t>
            </a:r>
            <a:r>
              <a:rPr b="1" i="1" lang="ru-RU" sz="5400" spc="-1" strike="noStrike">
                <a:solidFill>
                  <a:srgbClr val="e70000"/>
                </a:solidFill>
                <a:latin typeface="Book Antiqua"/>
              </a:rPr>
              <a:t>а</a:t>
            </a: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7160" indent="0" algn="ctr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запрост</a:t>
            </a:r>
            <a:r>
              <a:rPr b="1" i="1" lang="ru-RU" sz="5400" spc="-1" strike="noStrike">
                <a:solidFill>
                  <a:srgbClr val="e70000"/>
                </a:solidFill>
                <a:latin typeface="Book Antiqua"/>
              </a:rPr>
              <a:t>о</a:t>
            </a: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, вправ</a:t>
            </a:r>
            <a:r>
              <a:rPr b="1" i="1" lang="ru-RU" sz="5400" spc="-1" strike="noStrike">
                <a:solidFill>
                  <a:srgbClr val="e70000"/>
                </a:solidFill>
                <a:latin typeface="Book Antiqua"/>
              </a:rPr>
              <a:t>о</a:t>
            </a: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, напевн</a:t>
            </a:r>
            <a:r>
              <a:rPr b="1" i="1" lang="ru-RU" sz="5400" spc="-1" strike="noStrike">
                <a:solidFill>
                  <a:srgbClr val="e70000"/>
                </a:solidFill>
                <a:latin typeface="Book Antiqua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9T20:14:47Z</dcterms:created>
  <dc:creator>User</dc:creator>
  <dc:description/>
  <dc:language>en-US</dc:language>
  <cp:lastModifiedBy>User</cp:lastModifiedBy>
  <dcterms:modified xsi:type="dcterms:W3CDTF">2014-03-04T17:36:00Z</dcterms:modified>
  <cp:revision>24</cp:revision>
  <dc:subject/>
  <dc:title>Буквы о, а на конце наречий</dc:title>
</cp:coreProperties>
</file>